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539-7AE3-445B-B306-F711727F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58E-DC2E-4A0A-8D29-1EC47DA5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163-B6EF-4D1D-97C3-DD5AF2A1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56D-39CC-46D0-8FCE-49A90A7D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490-F8E3-442F-BB04-982AA8A6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890-7F88-48CF-B980-E584BB73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2FB-8D6F-42E6-A0EF-732C280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F54-B7EB-476F-A621-37348B75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E74-3CBD-4485-8AC1-A1F3C642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29D-A6B8-43E3-B93D-7AFCAEB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86E-0B18-4E38-840B-99CE9FF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86C-95DF-4F06-BABC-A29D16A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1FED-A5B0-449F-AF43-08EFE014C8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er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488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4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8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712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268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075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43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1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498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9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167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iodarona 300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22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52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9280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9482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8:32Z</dcterms:created>
  <dc:creator>OSCAR&amp;MARÍA</dc:creator>
  <dc:description/>
  <dc:language>en-US</dc:language>
  <cp:lastModifiedBy>OSCAR&amp;MARÍA</cp:lastModifiedBy>
  <dcterms:modified xsi:type="dcterms:W3CDTF">2007-03-09T16:03:13Z</dcterms:modified>
  <cp:revision>2</cp:revision>
  <dc:subject/>
  <dc:title>Diapositiva 1</dc:title>
</cp:coreProperties>
</file>