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1D8-BBA8-424D-B6B4-88C98159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E5B-0161-43BD-8E89-861697F6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EE4-4F21-48F1-8F9C-6F605506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529-7F4E-4B13-A545-CF0475EB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890-C0D3-49D0-8BC0-72788D23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696-91E4-4134-96F9-6A2B262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F94-814F-4C65-8948-C2C12383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417-01A5-4B9C-95F9-3EAFB825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260-7602-4837-9714-6731B9C0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CEA-76BF-42E1-9902-01343EC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DC3-BBD6-4C53-9D43-D8523CB1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B39-2056-4D05-B113-9384D55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43D-BCB2-4EA6-B64D-E727B235ED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er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488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4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8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712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268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075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43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1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498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299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167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iodarona 300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22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52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9280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9482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8:32Z</dcterms:created>
  <dc:creator>OSCAR&amp;MARÍA</dc:creator>
  <dc:description/>
  <dc:language>en-US</dc:language>
  <cp:lastModifiedBy>OSCAR&amp;MARÍA</cp:lastModifiedBy>
  <dcterms:modified xsi:type="dcterms:W3CDTF">2007-03-09T16:03:13Z</dcterms:modified>
  <cp:revision>2</cp:revision>
  <dc:subject/>
  <dc:title>Diapositiva 1</dc:title>
</cp:coreProperties>
</file>