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550-A17E-43B6-A18D-7D0EBE12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504-8B5D-4651-979B-3A437EE8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79F-F552-4B9A-813A-C1C77972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E26-CB4E-46FA-9FC1-4FE183EE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984-BAD6-4508-A51E-DF8A40D4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A28-E8D0-4EC6-ACA3-A21D6BDD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B99-D3F4-46E6-9C92-E5087B6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6A6-41CB-4CFC-B0EE-967B068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92A-7EE0-4B7C-9194-57959BE5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38E-78EA-49FB-9204-812F77D1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4D8-DC61-4091-8DCA-BF575E2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561-021A-437D-94F6-02C881BE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8272-928C-4FF6-88ED-98E5E24CF0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er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488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4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8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712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268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075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43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1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498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9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167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iodarona 300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22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52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9280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9482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8:32Z</dcterms:created>
  <dc:creator>OSCAR&amp;MARÍA</dc:creator>
  <dc:description/>
  <dc:language>en-US</dc:language>
  <cp:lastModifiedBy>OSCAR&amp;MARÍA</cp:lastModifiedBy>
  <dcterms:modified xsi:type="dcterms:W3CDTF">2007-03-09T16:03:13Z</dcterms:modified>
  <cp:revision>2</cp:revision>
  <dc:subject/>
  <dc:title>Diapositiva 1</dc:title>
</cp:coreProperties>
</file>