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572-7520-4F65-A403-B4563167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A4E8-9238-401D-B6DF-61FC8F0B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DE1F-E28A-4BDD-BFCA-987B9E9D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A0B-419A-440D-9F47-23DDBABF2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ED1-9BC1-464C-A11B-94F05119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7280-D64B-482E-8ED4-4AF3A7AD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EAFD-3BEA-40AD-8F9A-702433D5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DF2-C122-4B4D-8661-DDDEBA1A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5B70-C2EE-4A6A-9D0D-975BFD15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813A-BBC5-4BB0-B6D3-BFBDCD60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DE35-C053-4CF3-85D8-FE9B756B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A55B-F531-4EC8-AE70-534F16A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0ED75-9FEB-4998-BB31-5494EABFC568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620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er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63640" y="488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4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184464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63640" y="1712880"/>
            <a:ext cx="22320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126828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3075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63640" y="2943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1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03280" y="2498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429912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63640" y="416736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miodarona 300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2276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5245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º cic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92800"/>
            <a:ext cx="22320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renalina  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carga 360 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 min. R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mprobar pu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494820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[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5:58:32Z</dcterms:created>
  <dc:creator>OSCAR&amp;MARÍA</dc:creator>
  <dc:description/>
  <dc:language>en-US</dc:language>
  <cp:lastModifiedBy>OSCAR&amp;MARÍA</cp:lastModifiedBy>
  <dcterms:modified xsi:type="dcterms:W3CDTF">2007-03-09T16:03:13Z</dcterms:modified>
  <cp:revision>2</cp:revision>
  <dc:subject/>
  <dc:title>Diapositiva 1</dc:title>
</cp:coreProperties>
</file>